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901-06F3-4025-B543-EE21E7DC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415-33B8-4E84-B03C-10B5693B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289-F30F-4841-85F6-7819A39C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E4E-38BD-4AF3-A62C-8F4B3642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A218-ACD5-4723-AB3C-41162910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4A7D-B22B-45C0-B538-D8E44DDD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2DD1-E0B1-49A3-A3C3-6B2A5662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D113-CD43-4F68-9B74-C4E96D62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DD66-D43B-4F8B-9A05-9D8FC305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965D-9349-41FE-837C-63F68367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37B7-6AC9-4C7B-86E8-FD390639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369-8138-4427-B24C-D99DD3D8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2DDF-D4FE-4AF0-91CE-B4DF3B06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43BA-F8ED-49A6-89C9-A16A4790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C664-F0BF-484E-9159-A8D6E377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5C81-76C1-4BCB-902E-A41DB8C7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8C2A-34AD-4B67-B8F9-F413D584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A391-6FC4-42AE-B97E-3FC547A0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71855-6EE4-4130-A48F-4619764E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E77D-4277-4A89-89D5-81B36270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C505C-A438-4CA0-8ABF-1FCFCBAA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95FB3-66F7-4FCB-8973-9BF0A3F9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A1E-BEEC-495D-BB98-04CB359C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F499C-77E7-400F-8998-3A1F4829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0259-90EC-427E-B864-41DC4C16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58FF9-796F-4CE6-AAF4-70ED6E00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6A6A1-F56B-4A34-AA6A-EF122E9B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7693B-E19D-4CA7-A3A8-588A9519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56F00-38C4-4423-A47A-ABDC1E70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7CDE-55A6-4736-B5E0-71C6C35E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8EE8E-FC5D-4DD1-B2B6-1B844D1A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51C41-944B-4EAC-96ED-939D4BA3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F82B5-B464-4171-B2AB-0F33B88C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EB6F-37F3-45AB-B392-F7A98343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1B624-1CCC-416F-AC25-6CDBB380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40B26-0E7B-42AE-9664-D67C81ED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3E32B-392B-4040-877C-D7E572D5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BF107-D708-4CB3-9AE9-AD26441B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179A7-72EE-4A73-BCEC-FD159E36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AF165-A4A3-43B4-9583-8D394E6D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1A3F6-DA37-49C8-8710-71A9A573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80741-EA2C-4FB3-BBBB-12073E70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109C2-6AB2-4CC3-8943-9D042221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4AE8D-690A-4EE5-AF8B-92ED53BB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5D7-0515-4BB4-96C9-CF22E23C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38EFB-EBF4-4A93-AE2A-2B3CF11F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13D41-5785-42D9-93AE-BFACF1C1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0E49B-705C-44E7-ACAF-60FE62CD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B86F2-AE7D-434E-BB8B-64554A73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FC417-DC4F-4728-A2C3-8B7AFCF1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1847A-175B-4540-9F65-DC35D800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C3603-83DF-4992-A20F-CD510074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8D8A0-9D0B-4AD3-960B-350DD31B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C27EC-E867-4024-86E3-F565E434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F25F9-ADA4-42F0-8B0B-75A4A9EC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0FA-5F77-43B2-8C47-164D674D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A9184-CCC9-4D31-8BC9-5268F8FE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AFE92-EE23-4E95-B565-A7A38561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BF73C-0845-48D3-9F90-23D838F9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0AD90-CA74-4DB4-A11F-D6D047B3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5D244-CD9D-4714-9825-E9115180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F1763-B86B-4087-A93F-143FD2E5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3FFDC-0818-4981-80EC-319B0AB4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9915F-1DDC-400B-820E-D1D7FF5D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7BDD6-25CB-4AED-B1D3-0C4CFC43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58B4D-D656-408C-AB56-66A0B723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158-5AA1-4F6D-90DF-FD800A86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5F84D-7268-42EC-8B9F-82B23B71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80168-E944-438C-8461-998687D7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FE7BE-3C80-43A4-8DCF-C16A5023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C2363-4ABF-4FA3-8D76-37B628DB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67B8B-5F78-419B-A3C5-4909AC28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CB44F-1340-42A4-9F7D-433E899C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DED74-C7DD-4C62-9097-66344C1C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BC710-27E2-4A77-A713-94727308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09070-9E39-447F-BD9C-48C7F9E2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EB952-DB1B-42A9-9AE8-F185BCC7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80E-48EE-42CD-A576-7EA06A6D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C3602-8B19-4A4B-B7D6-7D3991CC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B314A-79CA-4CBA-A145-7E59107A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EAE87-EA6F-4264-AF68-3103B1B6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3182E-CEA6-4BE7-9674-745CFA52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42E30-79B7-46D4-9528-21846D1F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3C844-5FF3-493A-9063-08932B22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0D245-0C16-47D4-9D9B-0937A7A1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3924C-ACD8-4AE7-BAE3-05EDC08E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37683-C04C-4CCA-8DB9-1E7462F1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6DDF6-D841-4687-A7EB-DA02330F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97D-A8F4-41A2-B939-BAFB6A56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1A256-6E25-4F14-B635-ED97D893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CEFE6-3F6F-472D-90A5-10935BBB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DB1EC-6A1E-49D3-B3A0-05D25FDF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DCC07-0F79-4DD7-A851-DAFEAA82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2F362-8F23-4B90-95DF-7F44EB88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6389D-2E23-4A1E-803A-18BE8E66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E8AB2-BB8C-4194-AF2B-9C2ADA64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B406-9060-4243-A7C1-CCA92C0E6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045C-7391-4C4D-ADE2-8D53825ACFB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1F81-CCAF-41AF-A785-12FD2301E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EC7C-601E-416B-A0C4-2DC091B89C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2ABD-8A1D-46A5-839B-766E7FE58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81F1-BCCA-4CA9-97CF-84575B932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8733-CCE5-490E-89FD-D058C7D413D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409D-42CC-4312-A52F-FE30FFA8977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1444680" y="933480"/>
            <a:ext cx="6132600" cy="57052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378000" y="1085760"/>
            <a:ext cx="7796160" cy="4102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378000" y="1517760"/>
            <a:ext cx="7785000" cy="3822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378000" y="1096920"/>
            <a:ext cx="7723080" cy="5389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530280" y="822240"/>
            <a:ext cx="7815240" cy="5054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378000" y="884160"/>
            <a:ext cx="7815240" cy="5675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298440" y="1096920"/>
            <a:ext cx="7797960" cy="6681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-6480" y="1292400"/>
            <a:ext cx="7858080" cy="5346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378000" y="1311120"/>
            <a:ext cx="7735680" cy="4718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378000" y="1279440"/>
            <a:ext cx="7796160" cy="4444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378000" y="1139760"/>
            <a:ext cx="7705440" cy="38228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2:33:40Z</dcterms:created>
  <dc:creator>Brandon</dc:creator>
  <dc:description/>
  <dc:language>en-US</dc:language>
  <cp:lastModifiedBy>Brandon</cp:lastModifiedBy>
  <dcterms:modified xsi:type="dcterms:W3CDTF">2009-03-17T06:06:45Z</dcterms:modified>
  <cp:revision>22</cp:revision>
  <dc:subject/>
  <dc:title>Rich Dad, Poor Dad Chapter 9 </dc:title>
</cp:coreProperties>
</file>